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957-BBE4-413E-8E6F-37D5D817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DFE-BD62-4167-873D-245ECFC9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A75-962A-4A8A-A57B-2E991E73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40E-F152-42C0-905A-8A0784B1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58E1-CF66-4D5E-9447-9FB53889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576A-445A-42D0-932E-9FACA570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9EB2-B067-4513-917F-10201319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FFA3-27EB-4256-9CDF-FC668D01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4742-9904-43D6-8F82-AA6D26DE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B720-6030-43AE-BC00-D8381360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384B-BE31-4D85-A3D4-4C737D42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826-5F5B-471F-9961-57F61621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1164-9560-4D1B-9B5F-FE4DDB06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70E6-8BA7-40C1-827A-5458EC70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81CD-64A8-4343-9201-C1346D90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5980-DCC5-4BD1-B6CC-B1E7BF63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B8B9-76FD-4A97-B954-51F15BA7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AA8-00F2-46C5-8008-BB3105FF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1F2-CE72-45F3-9CB9-45E378CD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815-17A3-43E2-BDD0-58509F48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106-F07C-47A0-9823-2A970837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3ED-A460-4B52-89DE-39894DDC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04B-5A36-4947-A8C5-EA6FD4A0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E43-777A-4340-B6A0-9F49A97F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FB7F-85EF-4828-A4CD-9BB50932D2F1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68B1-8EB5-4646-A794-A79955AEDC2A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RKETING ALAPISMERETE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2637000"/>
            <a:ext cx="7010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. október 20. és november 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3417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VEVŐÉRTÉK FOGAL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 a megvásárolt termék vagy szolgáltatás (a) és az érte nyújtott ellenszolgáltatás (b) különbs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ék értéke, szolgáltatás értéke, személyzet/kiszolgálás értéke, imázs érté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öltség, időráfordítás, energia ráfordítás, pszichikai ráfordí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MARKETING HÁLÓZATB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szerzés és ellá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yár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osz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in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értékesíté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olgálta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GY NÉPSZERŰ TÉMA A 21.SZÁZADBAN: 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FOGYASZTÓI MAGATART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öbbféle modellt alkottak vizsgálatá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ásárlási szándék: a vevő „fekete doboza” (az individuumot rejti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merhető belő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vevő egyéni jellemző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döntési folyamat eleme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ARKETINGTÍPUSOK A VEVŐ SZEMSZÖGÉBŐL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áció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ltur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ion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1800360" cy="160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67280" y="3141720"/>
            <a:ext cx="2590920" cy="172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940360" y="4797360"/>
            <a:ext cx="25923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I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lati tevékenység orientációja a versenyképesség érdekéb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t és a piac kapcsolatán alapu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eredményességének feltétele, hogy az adott vállalkozá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egismerj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ersenytársaknál jobban kielégítse a vevők szükséglete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N ALAPUL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vők szükséglete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élpia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zervezeti koordináci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yereségessé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LYEK A MARKETING FŐBB ESZKÖZEI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DUCT (termék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ICE (ár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ACE (értékesítés helye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MOTION (kommunikáció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EGY SIKERES MARKETINGFOLYAMAT A 19. SZÁZADBÓL: </a:t>
            </a:r>
            <a:br>
              <a:rPr sz="3400"/>
            </a:b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Isaac Singer és a varrógé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3363840" cy="472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00720" y="2060640"/>
            <a:ext cx="3827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243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újítása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ábbal hajtott pedá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z anyagot varrás közben leszorító tal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az üzlettárs, Edward Clark ötle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ingyenes „reklámújság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régi gépek beszám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női vásárlóközönség megcélz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56: 2564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0: 100000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7: a </a:t>
            </a: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Corporation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ilág els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ultinacionális c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(Singer vagyona halálakor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5 millió dollá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10360" y="1844640"/>
            <a:ext cx="29336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 Ford, a Ford T tervezőj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inden vevő megkaphatja a kedvenc színű autóját, feltéve, ha az a feket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3640" y="3164040"/>
            <a:ext cx="45370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 TÁRSADALMI FELELŐSSÉG KÉRDÉ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zabályozás hat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tikai befoly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tikai befolyásol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enyből adódó hatás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M EGYSZERŰEN A SZÜKSÉGLETEK KIELÉGÍTÉSE ÉS A PROFIT MAXIMALIZÁLÁSA A CÉL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09:15Z</dcterms:created>
  <dc:creator>MS-USER</dc:creator>
  <dc:description/>
  <dc:language>en-US</dc:language>
  <cp:lastModifiedBy>Jakab</cp:lastModifiedBy>
  <dcterms:modified xsi:type="dcterms:W3CDTF">2010-07-05T19:12:47Z</dcterms:modified>
  <cp:revision>4</cp:revision>
  <dc:subject/>
  <dc:title>MARKETING ALAPISMERETEK</dc:title>
</cp:coreProperties>
</file>